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BED-EDA5-4401-83BB-E9D792F8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9BB-D9BB-4BE4-B699-A12527E6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8D0B2-8B5A-4CA2-A113-8384740F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D1932-3277-495F-A72B-D0753755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BD960-7B6C-4813-883B-63665BEB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0A156-86EE-4360-A968-6B9D1601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E864A-C9C2-4A99-B6A3-9F150790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F0AFD-C97D-4F15-9F54-3F826DBB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CAF89-C6A5-4860-A13C-47676DA4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9B2C2-5C34-4E5E-B955-35812393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D5B3B-94B6-4441-88B3-51D59816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A9D-9A1A-426D-ADEF-C88DDBA1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186-A6FB-442A-8525-EC6AF608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D350-9E77-4E2A-8250-9FD93C91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2BF-336D-46A5-A93A-986262C6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CC95-8FCD-4717-AFB9-D48C5A22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E191-E57A-4847-A36A-E84D8C4B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1466-77FE-4470-B626-3A8E0C8F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BEF7-26B0-475D-90C1-1FE44AE2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6F83-ED46-4D31-818D-B20ACD4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B49-5566-4834-B2B8-48E1128C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A067-55B9-4EBE-8F72-33711009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5938-AA64-42EC-9A76-82956117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D4B9-3914-4EA7-9F85-0F43181B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4FC1-3DB8-402B-9F20-52A0A48C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A657-3268-4BD0-B933-F396680C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9E47-C110-4F62-830B-39D782FB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0681-39B6-4820-929B-2862B49C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B64DD-164E-43A2-8538-5057E0A1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7DEE0-DC0F-490A-A2B5-DADEC1B7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D005-CC7A-4CD0-A99B-92F8A2CB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283-680D-48EB-BE45-CBD7415F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DFF9-419C-49F5-8DC4-DC77D2AE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BB04-21F3-4A38-95CD-E8B3184C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DB38-B1BD-4F1F-822D-7AF4074D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DED4-1AC0-4939-A5D2-1C0C14ED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EF99-A07B-4AB4-A225-BA8DA113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4D96-1040-4A61-975C-8BA1A9FC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8F8B-EDCC-4444-84CC-02D2ACCB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CE533-BB47-4BBF-8A5B-63646276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0F725-8CB3-4EA2-8B09-246CFB10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A0F7A-3A75-40A7-99E5-A991FEE0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607-8B8E-40E7-8634-1D93798A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EB324-FA57-4957-B64C-B06BA5AB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19E2A-04D0-4E9F-B1D6-E2410024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29635-18B9-4A1E-84F1-D48E5937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53AB-9662-4C90-B14E-31C2BC58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469C-822D-4EBE-823C-1CCC514B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4ACB-9456-4273-9193-0D75B4BE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027D-B104-4894-BC78-AFAA3B6F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C1BFE-DE3F-43A6-816A-EF683314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DB43-ACBE-48A4-B953-D88CEA92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3CD3-B960-4459-A30E-BFF6B41C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77D-0FC3-4AC4-B4F0-B331934F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86F61-19B4-44CB-8C62-6A84B666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4BBA9-21BD-440E-9328-C71D69FC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393F7-1422-447D-AF2A-AD0EB9A1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2EE5A-3FD8-41B7-8E3F-5869F1F1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32359-08DC-46A8-AD7E-588A12A3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0656-7088-42C6-8F3B-C8AB4600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7478A-2EE8-4FFC-ABBB-A234B39E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D5CF-CE70-4997-8D26-3D921166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E689C-FB43-42E2-A325-4F998929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0B194-CE2D-4213-BE27-A1C7BC88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52F-D79D-4738-84CB-B5F381EE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BA8A-E2F0-4B7C-9770-BBA09DD7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4B484-F8D6-459E-B69A-EC5D903F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2FA63-134D-4C7B-ABB1-B1CE852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E98C8-3460-41B2-ABD1-13908929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D82E3-58EE-41B6-B18B-9C16F2B6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F79C5-F588-4C42-A1A8-2ADD05A5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AB66-7743-453B-9136-5DF6B405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F4065-04F2-498D-8260-687476F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3DAC3-74BC-43C9-AB7F-9BD91A4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047D-D991-4B0D-8E1D-201F0758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D7E-9E74-4B62-A37D-CEC5B6D9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4A0E1-C82B-490E-8C56-4D586E3B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D7C4C-347D-47F0-B24E-CE5A8F84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2A51A-B7C5-4252-BD66-41F28294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BE77F-07FC-4D5A-8D2E-3BCE41D8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3DAF5-30E8-43B1-8727-6811AC1A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09AEA-8110-4629-AE28-CA329BB1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48D2B-04AC-4EC3-98C2-0F68318C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DDB86-4A8F-4457-8A4F-82AEACE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DC0E6-D6BE-49B1-AC98-4CA53D9F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A00DE-EF5E-4936-9CE6-1753F3D6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ED6-ABDE-410B-BC3E-3E70B7DF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27DA5-64EB-4C69-B4AC-0151AA16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D481B-E5D5-4525-BA01-EE2612E7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FADD4-0740-4E31-BD8B-4A72FCE9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A96B8-73E1-4A02-8B4E-D0F79C2E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7E7C4-4F00-4CB7-82BC-91DF9645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532E4-DBEA-4C6F-8F86-41F2FDC5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C708-29DC-4037-8C10-CADE400D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4B0DE-1640-46AA-BFEE-F7FBC882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202EF-9DB9-4988-9F44-325462D5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16A36-60B0-43FC-8FA0-ECC7988F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DAC-FE1B-4E87-B7A4-E98D3998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E4D6E-DB63-45AC-B757-80C55649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1DC3F-11D1-4B17-ACE6-B665BA04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09ECE-5E8D-4F70-BA14-47FBD436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A8C86-160D-409D-8240-E0DD705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69A84-B8F9-40E2-8A48-F9D574D7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A503D-6A27-4E95-A0B7-5B43FAEC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2350E-7CFA-4326-A1B6-E8CFDF68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D6C0A-242C-4CB0-8F44-DDE4617B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7D030-E27F-412A-A8BB-FEAF3605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A289A-790B-455D-B6A7-3BA71E66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89F3-0524-4C3B-95AC-B3BDA1878235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8FBD-1E7A-4D4D-A163-D523FFDD21B3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66B7-B357-4F7A-AAE6-1F7CCDB23A4C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8A3D-7656-4006-967B-1FA58A61351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94F8-EA9B-4AB6-840D-B89245F1039F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5433-B4B7-4881-A52B-B07C4776ABB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7C92-B52A-44D0-90BE-47E2D136790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D4F7-83B5-4B6D-BDE2-05AB2E34F85E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D95F-BA18-400F-A63E-A77A111CEC60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page?&amp;q=949083643&amp;p=11&amp;ag=ih&amp;rpt=simage&amp;qs=stype=image&amp;nl=0&amp;text=%CD%C1%D4%C5%CD%C1%D4%C9%CB%C1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000480" y="5785920"/>
            <a:ext cx="278604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lvl="1" marL="45720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Савцова У.Б.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45720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142 группа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45720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КГПИ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00" name="Прямоугольник 3" descr=""/>
          <p:cNvPicPr/>
          <p:nvPr/>
        </p:nvPicPr>
        <p:blipFill>
          <a:blip r:embed="rId1"/>
          <a:stretch/>
        </p:blipFill>
        <p:spPr>
          <a:xfrm>
            <a:off x="1170000" y="981000"/>
            <a:ext cx="70959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56760" y="1214280"/>
            <a:ext cx="848196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В природе можно видеть и графики тригонометрических функций, квадратных и кубических уравнений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3" name="Picture 2" descr="D:\документы\КГПИ\ИКТО\Портфолио\images_sounds (медиаматериалы)\s3img_10063650_3755_1.jpg"/>
          <p:cNvPicPr/>
          <p:nvPr/>
        </p:nvPicPr>
        <p:blipFill>
          <a:blip r:embed="rId2"/>
          <a:stretch/>
        </p:blipFill>
        <p:spPr>
          <a:xfrm>
            <a:off x="3286080" y="3000240"/>
            <a:ext cx="5624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682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2142720"/>
            <a:ext cx="818676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13f9a"/>
                </a:solidFill>
                <a:latin typeface="Franklin Gothic Book"/>
              </a:rPr>
              <a:t>В чем единство математики, искусства и красоты природы?</a:t>
            </a:r>
            <a:endParaRPr b="0" lang="en-US" sz="6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285480" y="1785600"/>
            <a:ext cx="855324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Franklin Gothic Book"/>
              </a:rPr>
              <a:t>Можно ли измерить математикой искусство и красоту?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Franklin Gothic Book"/>
              </a:rPr>
              <a:t>Что общего между красотой природы и математикой?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Franklin Gothic Book"/>
              </a:rPr>
              <a:t>Возможен ли мир без симметрии?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642960" y="1285560"/>
            <a:ext cx="785808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Математика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288000" indent="-28800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Природоведение, окружающий мир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288000" indent="-28800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Мировая художественная культура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115920" y="3706920"/>
            <a:ext cx="8862840" cy="1060200"/>
          </a:xfrm>
          <a:prstGeom prst="rect">
            <a:avLst/>
          </a:prstGeom>
          <a:ln w="0">
            <a:noFill/>
          </a:ln>
        </p:spPr>
      </p:pic>
      <p:sp>
        <p:nvSpPr>
          <p:cNvPr id="408" name="Содержимое 2"/>
          <p:cNvSpPr/>
          <p:nvPr/>
        </p:nvSpPr>
        <p:spPr>
          <a:xfrm>
            <a:off x="785880" y="4714920"/>
            <a:ext cx="6500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Учащиеся 10 или 11 классов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Показать учащимся неразрывную связь между основными законами математики, искусства и природы;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Позволить шире  взглянуть на окружающий мир;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Развивать любознательность; интеллектуальную сферу личности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14200" y="171468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Научиться пользоваться языком математики для описания предметов окружающего мира;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Научиться использовать знания и умения по математике в практической деятельности и повседневной жизни;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Понимать неразрывное сочетание науки и искусства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13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642600" y="2285640"/>
            <a:ext cx="78296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Franklin Gothic Book"/>
              </a:rPr>
              <a:t>Презентация.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32640" indent="-33264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Franklin Gothic Book"/>
              </a:rPr>
              <a:t>Буклет - информация и факты по теме исследования.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285840" y="200016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I этап. Знакомство с проектом, выбор темы исследования. Сбор информации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II этап. Защита презентаций и буклетов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III этап. Повторение пройденного материала 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IV этап. Защита работ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6760" y="1428840"/>
            <a:ext cx="5553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Математика – это царица всех наук. Искусство – это точное соблюдение законов математики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19" name="Picture 8" descr="i?id=16182679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1428840"/>
            <a:ext cx="2071440" cy="2071440"/>
          </a:xfrm>
          <a:prstGeom prst="rect">
            <a:avLst/>
          </a:prstGeom>
          <a:ln w="0">
            <a:noFill/>
          </a:ln>
        </p:spPr>
      </p:pic>
      <p:sp>
        <p:nvSpPr>
          <p:cNvPr id="420" name="Содержимое 2"/>
          <p:cNvSpPr/>
          <p:nvPr/>
        </p:nvSpPr>
        <p:spPr>
          <a:xfrm>
            <a:off x="357120" y="3929040"/>
            <a:ext cx="85010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Законы математики действуют даже в тех областях, где их менее всего ожидалось встретить: в живописи, музыке, скульптуре и просто в повседневной жизни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8:29:52Z</dcterms:created>
  <dc:creator>Ульянка</dc:creator>
  <dc:description/>
  <dc:language>en-US</dc:language>
  <cp:lastModifiedBy>Ульянка</cp:lastModifiedBy>
  <dcterms:modified xsi:type="dcterms:W3CDTF">2010-05-30T10:15:17Z</dcterms:modified>
  <cp:revision>30</cp:revision>
  <dc:subject/>
  <dc:title>Слайд 1</dc:title>
</cp:coreProperties>
</file>